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AAE-61C6-45AA-B18A-D161B441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F3E-3C4B-4146-AB08-CDBC9FBF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8EF-075C-42C1-BBC6-2B46BF57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4E0-74EA-4C3A-8C1C-D3752D82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043-B54B-4097-AB73-831DBC50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2F3-6AC4-4026-976C-1CFDB1DB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7F1-956C-4E34-B8EC-8F91902D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AAA-B3A0-4E98-AA0F-46B8D486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347-2DD2-45B7-89A9-23148C8D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00E-F5C1-4284-9642-769624C9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592-C387-4336-8F61-2E454620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A51-C6BF-4201-BDD4-5CCF4B79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3777-1B15-4F30-89E6-30F2F4740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2" name="Group 1"/>
          <p:cNvGrpSpPr/>
          <p:nvPr/>
        </p:nvGrpSpPr>
        <p:grpSpPr>
          <a:xfrm>
            <a:off x="0" y="-306360"/>
            <a:ext cx="9323280" cy="7162920"/>
            <a:chOff x="0" y="-306360"/>
            <a:chExt cx="9323280" cy="7162920"/>
          </a:xfrm>
        </p:grpSpPr>
        <p:grpSp>
          <p:nvGrpSpPr>
            <p:cNvPr id="43" name="Group 2"/>
            <p:cNvGrpSpPr/>
            <p:nvPr/>
          </p:nvGrpSpPr>
          <p:grpSpPr>
            <a:xfrm>
              <a:off x="0" y="-306360"/>
              <a:ext cx="9323280" cy="7162920"/>
              <a:chOff x="0" y="-306360"/>
              <a:chExt cx="9323280" cy="7162920"/>
            </a:xfrm>
          </p:grpSpPr>
          <p:pic>
            <p:nvPicPr>
              <p:cNvPr id="4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306360"/>
                <a:ext cx="9323280" cy="716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Text Box 4"/>
              <p:cNvSpPr/>
              <p:nvPr/>
            </p:nvSpPr>
            <p:spPr>
              <a:xfrm>
                <a:off x="0" y="-306360"/>
                <a:ext cx="9323280" cy="71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" name="Picture 5" descr=""/>
            <p:cNvPicPr/>
            <p:nvPr/>
          </p:nvPicPr>
          <p:blipFill>
            <a:blip r:embed="rId2"/>
            <a:srcRect l="0" t="0" r="0" b="81000"/>
            <a:stretch/>
          </p:blipFill>
          <p:spPr>
            <a:xfrm>
              <a:off x="0" y="-306360"/>
              <a:ext cx="9323280" cy="1843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7" name=""/>
          <p:cNvGraphicFramePr/>
          <p:nvPr/>
        </p:nvGraphicFramePr>
        <p:xfrm>
          <a:off x="673200" y="620640"/>
          <a:ext cx="8470800" cy="6083280"/>
        </p:xfrm>
        <a:graphic>
          <a:graphicData uri="http://schemas.openxmlformats.org/drawingml/2006/table">
            <a:tbl>
              <a:tblPr/>
              <a:tblGrid>
                <a:gridCol w="4233600"/>
                <a:gridCol w="1816200"/>
                <a:gridCol w="2421000"/>
              </a:tblGrid>
              <a:tr h="680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м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02b"/>
                          </a:solidFill>
                          <a:latin typeface="Arial"/>
                        </a:rPr>
                        <a:t>Кормиловски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46,66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7,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1,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8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3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63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8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3,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6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62,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2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9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9,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2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ц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,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уз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8,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 по обязательным предме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,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2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 по предметам по выбо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1,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7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 Box 6"/>
          <p:cNvSpPr/>
          <p:nvPr/>
        </p:nvSpPr>
        <p:spPr>
          <a:xfrm>
            <a:off x="514440" y="0"/>
            <a:ext cx="80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DejaVu Sans"/>
              </a:rPr>
              <a:t>Результаты ЕГЭ (средний бал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8:37:17Z</dcterms:created>
  <dc:creator>ZhukovaLN</dc:creator>
  <dc:description/>
  <dc:language>en-US</dc:language>
  <cp:lastModifiedBy>sysadmin</cp:lastModifiedBy>
  <dcterms:modified xsi:type="dcterms:W3CDTF">2011-05-06T09:13:24Z</dcterms:modified>
  <cp:revision>373</cp:revision>
  <dc:subject/>
  <dc:title>Слайд 1</dc:title>
</cp:coreProperties>
</file>