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15138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9A8B-75DE-4F30-8F7F-3D93E0AB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9E1E-14EC-495D-B065-0B46E390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21EC-49E3-4F4F-9585-27336D13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D1D6-7437-4255-8D73-2A701A40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B6EE-F09A-4889-AC0F-615BC04B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47C5-1030-4C07-9BC1-F8A567C6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57BF-0872-4C0D-8535-6130F4F8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381D-C76A-4168-AAF1-C373498F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A17A-8A18-49D6-927B-86C9A6C1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D6C3-E1C2-4E0E-9230-6A4F58E7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E980-3181-4F03-BF1C-9AA89CF8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D884-A7D2-41D0-883C-04BA8E8B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F106-9117-4B1D-BBC1-BAB9964D2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2" name="Group 1"/>
          <p:cNvGrpSpPr/>
          <p:nvPr/>
        </p:nvGrpSpPr>
        <p:grpSpPr>
          <a:xfrm>
            <a:off x="0" y="-306360"/>
            <a:ext cx="9323280" cy="7162920"/>
            <a:chOff x="0" y="-306360"/>
            <a:chExt cx="9323280" cy="7162920"/>
          </a:xfrm>
        </p:grpSpPr>
        <p:grpSp>
          <p:nvGrpSpPr>
            <p:cNvPr id="43" name="Group 2"/>
            <p:cNvGrpSpPr/>
            <p:nvPr/>
          </p:nvGrpSpPr>
          <p:grpSpPr>
            <a:xfrm>
              <a:off x="0" y="-306360"/>
              <a:ext cx="9323280" cy="7162920"/>
              <a:chOff x="0" y="-306360"/>
              <a:chExt cx="9323280" cy="7162920"/>
            </a:xfrm>
          </p:grpSpPr>
          <p:pic>
            <p:nvPicPr>
              <p:cNvPr id="44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306360"/>
                <a:ext cx="9323280" cy="716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Text Box 4"/>
              <p:cNvSpPr/>
              <p:nvPr/>
            </p:nvSpPr>
            <p:spPr>
              <a:xfrm>
                <a:off x="0" y="-306360"/>
                <a:ext cx="9323280" cy="71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" name="Picture 5" descr=""/>
            <p:cNvPicPr/>
            <p:nvPr/>
          </p:nvPicPr>
          <p:blipFill>
            <a:blip r:embed="rId2"/>
            <a:srcRect l="0" t="0" r="0" b="81000"/>
            <a:stretch/>
          </p:blipFill>
          <p:spPr>
            <a:xfrm>
              <a:off x="0" y="-306360"/>
              <a:ext cx="9323280" cy="1843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7" name=""/>
          <p:cNvGraphicFramePr/>
          <p:nvPr/>
        </p:nvGraphicFramePr>
        <p:xfrm>
          <a:off x="673200" y="620640"/>
          <a:ext cx="8470800" cy="6083280"/>
        </p:xfrm>
        <a:graphic>
          <a:graphicData uri="http://schemas.openxmlformats.org/drawingml/2006/table">
            <a:tbl>
              <a:tblPr/>
              <a:tblGrid>
                <a:gridCol w="4233600"/>
                <a:gridCol w="1816200"/>
                <a:gridCol w="2421000"/>
              </a:tblGrid>
              <a:tr h="680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м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02b"/>
                          </a:solidFill>
                          <a:latin typeface="Arial"/>
                        </a:rPr>
                        <a:t>Кормиловский рай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4,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46,66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7,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7,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1,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58,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3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63,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8,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53,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6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62,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2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54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9,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9,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8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1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глий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2,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58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ец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4,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уз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8,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8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балл по обязательным предмет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0,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52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8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балл по предметам по выбо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1,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57,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Text Box 6"/>
          <p:cNvSpPr/>
          <p:nvPr/>
        </p:nvSpPr>
        <p:spPr>
          <a:xfrm>
            <a:off x="514440" y="0"/>
            <a:ext cx="80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DejaVu Sans"/>
              </a:rPr>
              <a:t>Результаты ЕГЭ (средний бал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08:37:17Z</dcterms:created>
  <dc:creator>ZhukovaLN</dc:creator>
  <dc:description/>
  <dc:language>en-US</dc:language>
  <cp:lastModifiedBy>sysadmin</cp:lastModifiedBy>
  <dcterms:modified xsi:type="dcterms:W3CDTF">2011-05-06T09:13:24Z</dcterms:modified>
  <cp:revision>373</cp:revision>
  <dc:subject/>
  <dc:title>Слайд 1</dc:title>
</cp:coreProperties>
</file>