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5E0-462F-4F50-ACF9-857BA1CD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7BCA-AE08-4CAA-8DEA-2DF0E282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6EC1-1228-4C12-934F-3CAA36F6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2030-CEF8-47A5-9543-7FDABBD1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C48F-98FD-43B7-877F-2C41007B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3E9-9941-4AC8-8240-A4975B04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9DEF-48C3-4D91-9891-2E3EF2F6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A7F-B7ED-41D3-A397-DDEE8D83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B375-87C0-4FE2-94D0-FCB6B88C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F98-A390-40FD-9B4A-A0603341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236-FC27-41FA-B5E5-6EB3DC60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B704-2AB6-483E-A6DF-DEF6CAAF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7E1A-1629-4620-A3FD-A12FA875B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101004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3" descr="герб ОО"/>
          <p:cNvPicPr/>
          <p:nvPr/>
        </p:nvPicPr>
        <p:blipFill>
          <a:blip r:embed="rId3"/>
          <a:stretch/>
        </p:blipFill>
        <p:spPr>
          <a:xfrm>
            <a:off x="0" y="0"/>
            <a:ext cx="826920" cy="768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0"/>
          <p:cNvSpPr/>
          <p:nvPr/>
        </p:nvSpPr>
        <p:spPr>
          <a:xfrm>
            <a:off x="731880" y="0"/>
            <a:ext cx="84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cc00"/>
                </a:solidFill>
                <a:latin typeface="Arial"/>
              </a:rPr>
              <a:t>Агропромышленный комплекс Ом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611280" y="189000"/>
            <a:ext cx="828036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посевных площа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462"/>
          <p:cNvSpPr/>
          <p:nvPr/>
        </p:nvSpPr>
        <p:spPr>
          <a:xfrm>
            <a:off x="4943520" y="16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2592"/>
          <p:cNvSpPr/>
          <p:nvPr/>
        </p:nvSpPr>
        <p:spPr>
          <a:xfrm>
            <a:off x="5346720" y="-3720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650"/>
          <p:cNvSpPr/>
          <p:nvPr/>
        </p:nvSpPr>
        <p:spPr>
          <a:xfrm>
            <a:off x="5346720" y="-442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577800"/>
          <a:ext cx="9144000" cy="6224760"/>
        </p:xfrm>
        <a:graphic>
          <a:graphicData uri="http://schemas.openxmlformats.org/drawingml/2006/table">
            <a:tbl>
              <a:tblPr/>
              <a:tblGrid>
                <a:gridCol w="2557440"/>
                <a:gridCol w="1008000"/>
                <a:gridCol w="1084320"/>
                <a:gridCol w="852480"/>
                <a:gridCol w="696960"/>
                <a:gridCol w="1054080"/>
                <a:gridCol w="730080"/>
                <a:gridCol w="538200"/>
                <a:gridCol w="622440"/>
              </a:tblGrid>
              <a:tr h="3049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аш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вная площа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вные площади (г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рн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мовые без многолетних тр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К "Некрасовский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К "Нив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О "Юрьево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О "Зотино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О "Вега -Агро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АО "АК "Алексеевский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О "Русское поле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О «МЗ "Кормиловский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Х ОКП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 "Богдановское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О "Сибирский Аграрий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О "Дары Сибири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О "Мечт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хозяй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Х, ЛП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7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9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району за 201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9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1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а  на 201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1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8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г. к 2010 г., +,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6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0:31Z</dcterms:created>
  <dc:creator>Храмцов_Р_И</dc:creator>
  <dc:description/>
  <dc:language>en-US</dc:language>
  <cp:lastModifiedBy>sysadmin</cp:lastModifiedBy>
  <dcterms:modified xsi:type="dcterms:W3CDTF">2011-05-06T09:00:04Z</dcterms:modified>
  <cp:revision>337</cp:revision>
  <dc:subject/>
  <dc:title>ФЦП «Социальное развитие села до 2012 года»</dc:title>
</cp:coreProperties>
</file>