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B51-603E-43D1-8E3A-E6EB361E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2F3-F9F8-4279-9CBD-70301434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F81-AFCB-400B-85C3-4E2535CD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514-352B-4B27-80D4-BE669F11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0C4-B1D6-4904-818B-B9609B5A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D9E-3EA3-4D16-8746-E3D20F17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F3F-43FB-4F44-A3D6-DC9FC10A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85B-6516-49DE-9988-20031EA2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997-3B10-4049-92DE-E742D121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692-AD6F-4D42-8674-55C811D2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8B3-3B78-4CA5-86AA-ACA0429A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F52-39CC-4AB2-88A5-2AFAC7D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C6BA-5BAA-46D9-A09C-F5899E15B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101004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3" descr="герб ОО"/>
          <p:cNvPicPr/>
          <p:nvPr/>
        </p:nvPicPr>
        <p:blipFill>
          <a:blip r:embed="rId3"/>
          <a:stretch/>
        </p:blipFill>
        <p:spPr>
          <a:xfrm>
            <a:off x="0" y="0"/>
            <a:ext cx="826920" cy="768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0"/>
          <p:cNvSpPr/>
          <p:nvPr/>
        </p:nvSpPr>
        <p:spPr>
          <a:xfrm>
            <a:off x="731880" y="0"/>
            <a:ext cx="84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cc00"/>
                </a:solidFill>
                <a:latin typeface="Arial"/>
              </a:rPr>
              <a:t>Агропромышленный комплекс Ом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611280" y="189000"/>
            <a:ext cx="828036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посевных площ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62"/>
          <p:cNvSpPr/>
          <p:nvPr/>
        </p:nvSpPr>
        <p:spPr>
          <a:xfrm>
            <a:off x="4943520" y="16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592"/>
          <p:cNvSpPr/>
          <p:nvPr/>
        </p:nvSpPr>
        <p:spPr>
          <a:xfrm>
            <a:off x="5346720" y="-3720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650"/>
          <p:cNvSpPr/>
          <p:nvPr/>
        </p:nvSpPr>
        <p:spPr>
          <a:xfrm>
            <a:off x="5346720" y="-442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577800"/>
          <a:ext cx="9144000" cy="6224760"/>
        </p:xfrm>
        <a:graphic>
          <a:graphicData uri="http://schemas.openxmlformats.org/drawingml/2006/table">
            <a:tbl>
              <a:tblPr/>
              <a:tblGrid>
                <a:gridCol w="2557440"/>
                <a:gridCol w="1008000"/>
                <a:gridCol w="1084320"/>
                <a:gridCol w="852480"/>
                <a:gridCol w="696960"/>
                <a:gridCol w="1054080"/>
                <a:gridCol w="730080"/>
                <a:gridCol w="538200"/>
                <a:gridCol w="622440"/>
              </a:tblGrid>
              <a:tr h="3049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аш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вная площ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вные площади (г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рн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мовые без многолетних тр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К "Некрасовск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К "Нив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Юрьев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Зотин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Вега -Агр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АО "АК "Алексеевск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Русское поле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«МЗ "Кормиловск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Х ОКП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 "Богдановское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Сибирский Аграр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Дары Сибири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Мечт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хозяй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Х, ЛП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йону за 201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9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а  на 201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г. к 2010 г., +,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0:31Z</dcterms:created>
  <dc:creator>Храмцов_Р_И</dc:creator>
  <dc:description/>
  <dc:language>en-US</dc:language>
  <cp:lastModifiedBy>sysadmin</cp:lastModifiedBy>
  <dcterms:modified xsi:type="dcterms:W3CDTF">2011-05-06T09:00:04Z</dcterms:modified>
  <cp:revision>337</cp:revision>
  <dc:subject/>
  <dc:title>ФЦП «Социальное развитие села до 2012 года»</dc:title>
</cp:coreProperties>
</file>