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 type="sldNum" idx="6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C35A-A1C9-45C6-969D-0499801952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9B16-DE6F-4967-9713-29D6FBEDC2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E9E-75ED-4919-A4EE-AFC6AA91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C2B-EFCE-4236-86AC-76A57560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F19-62D9-42A1-9A8F-56D7861E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B53-DE38-4A93-BA71-87EA070A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3F0-2237-433C-8D47-2BE46548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1F6C-6421-4670-A580-604936B0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2081-103A-41EC-A85F-FA4366AD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A65-65C6-4116-A8BF-5207349F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236-55B3-4E72-8412-E38BDDCF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6AE-D4B5-4031-812F-C82BAD58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2C1-0167-43E3-A2EF-93280A43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59E-FAAF-4A86-B49D-E46D2891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9C9F-13E4-41AB-85D4-4D94133484A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9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5098"/>
                </a:srgbClr>
              </a:gs>
            </a:gsLst>
            <a:lin ang="15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3" descr="герб ОО"/>
          <p:cNvPicPr/>
          <p:nvPr/>
        </p:nvPicPr>
        <p:blipFill>
          <a:blip r:embed="rId1"/>
          <a:stretch/>
        </p:blipFill>
        <p:spPr>
          <a:xfrm>
            <a:off x="4680" y="71280"/>
            <a:ext cx="917640" cy="72252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ая соединительная линия 5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3"/>
          <p:cNvSpPr/>
          <p:nvPr/>
        </p:nvSpPr>
        <p:spPr>
          <a:xfrm>
            <a:off x="987120" y="115920"/>
            <a:ext cx="18417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Выездное заседание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равительства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Омской обла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38"/>
          <p:cNvGrpSpPr/>
          <p:nvPr/>
        </p:nvGrpSpPr>
        <p:grpSpPr>
          <a:xfrm>
            <a:off x="324000" y="1052640"/>
            <a:ext cx="8569080" cy="993960"/>
            <a:chOff x="324000" y="1052640"/>
            <a:chExt cx="8569080" cy="993960"/>
          </a:xfrm>
        </p:grpSpPr>
        <p:sp>
          <p:nvSpPr>
            <p:cNvPr id="325" name="AutoShape 14"/>
            <p:cNvSpPr/>
            <p:nvPr/>
          </p:nvSpPr>
          <p:spPr>
            <a:xfrm>
              <a:off x="324000" y="1052640"/>
              <a:ext cx="8510400" cy="94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6"/>
            <p:cNvSpPr/>
            <p:nvPr/>
          </p:nvSpPr>
          <p:spPr>
            <a:xfrm>
              <a:off x="431640" y="1129680"/>
              <a:ext cx="846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77840"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ru-RU" sz="1800" spc="-1" strike="noStrike">
                  <a:solidFill>
                    <a:srgbClr val="464646"/>
                  </a:solidFill>
                  <a:latin typeface="Arial"/>
                  <a:ea typeface="Arial"/>
                </a:rPr>
                <a:t>Показатели смертности и заболеваемости туберкулезом, выполнение плана флюорообследования населения </a:t>
              </a:r>
              <a:br>
                <a:rPr sz="1800"/>
              </a:br>
              <a:r>
                <a:rPr b="0" lang="ru-RU" sz="1800" spc="-1" strike="noStrike">
                  <a:solidFill>
                    <a:srgbClr val="464646"/>
                  </a:solidFill>
                  <a:latin typeface="Arial"/>
                  <a:ea typeface="Arial"/>
                </a:rPr>
                <a:t>в </a:t>
              </a:r>
              <a:r>
                <a:rPr b="0" lang="ru-RU" sz="1800" spc="-1" strike="noStrike">
                  <a:solidFill>
                    <a:srgbClr val="464646"/>
                  </a:solidFill>
                  <a:latin typeface="Arial"/>
                </a:rPr>
                <a:t>Кормиловском</a:t>
              </a:r>
              <a:r>
                <a:rPr b="0" lang="ru-RU" sz="1800" spc="-1" strike="noStrike">
                  <a:solidFill>
                    <a:srgbClr val="464646"/>
                  </a:solidFill>
                  <a:latin typeface="Arial"/>
                  <a:ea typeface="Arial"/>
                </a:rPr>
                <a:t> муниципальном районе Омской обла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7" name=""/>
          <p:cNvGraphicFramePr/>
          <p:nvPr/>
        </p:nvGraphicFramePr>
        <p:xfrm>
          <a:off x="214200" y="2143080"/>
          <a:ext cx="8712360" cy="4011480"/>
        </p:xfrm>
        <a:graphic>
          <a:graphicData uri="http://schemas.openxmlformats.org/drawingml/2006/table">
            <a:tbl>
              <a:tblPr/>
              <a:tblGrid>
                <a:gridCol w="2808360"/>
                <a:gridCol w="685800"/>
                <a:gridCol w="754200"/>
                <a:gridCol w="1071360"/>
                <a:gridCol w="1160640"/>
                <a:gridCol w="1297080"/>
                <a:gridCol w="934920"/>
              </a:tblGrid>
              <a:tr h="627120"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 20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у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98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район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йонн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обла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заболеваем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(на 100 тыс. населе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8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смер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(на 100 тыс. населе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выполнение плана флюорообследования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28" name="Стрелка вправо 13"/>
          <p:cNvSpPr/>
          <p:nvPr/>
        </p:nvSpPr>
        <p:spPr>
          <a:xfrm rot="16200000">
            <a:off x="8608320" y="553608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13"/>
          <p:cNvSpPr/>
          <p:nvPr/>
        </p:nvSpPr>
        <p:spPr>
          <a:xfrm>
            <a:off x="3928320" y="428760"/>
            <a:ext cx="52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значимые заболе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трелка вправо 13"/>
          <p:cNvSpPr/>
          <p:nvPr/>
        </p:nvSpPr>
        <p:spPr>
          <a:xfrm rot="16200000">
            <a:off x="8537040" y="40359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трелка вправо 13"/>
          <p:cNvSpPr/>
          <p:nvPr/>
        </p:nvSpPr>
        <p:spPr>
          <a:xfrm rot="16200000">
            <a:off x="8568360" y="483300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2:04:31Z</dcterms:created>
  <dc:creator>Migunova</dc:creator>
  <dc:description/>
  <dc:language>en-US</dc:language>
  <cp:lastModifiedBy>sysadmin</cp:lastModifiedBy>
  <dcterms:modified xsi:type="dcterms:W3CDTF">2011-05-06T09:43:13Z</dcterms:modified>
  <cp:revision>128</cp:revision>
  <dc:subject/>
  <dc:title>О готовности медицинской службы Омской областик эпидемическому подъему заболеваемости гриппом и ОРВИ в 2011 году</dc:title>
</cp:coreProperties>
</file>