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6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E6A-EBF2-4CDD-906A-8EA0B1D3B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B94-E743-40B3-AEF4-8E290AF6B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57A-33F8-4E27-81F3-4B3BDF62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E92-6E46-4C77-BCBE-EB329D0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3EF-65D5-49BD-B117-C13C8971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BB6-4BEF-4969-AC1C-3814FBD3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91D-280C-4A7F-A75E-8326EB59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30D-AC13-4FD5-9056-88ABEF32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E4A-61BE-47AA-BF92-78A41E7B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4F5-F317-4FE4-902A-1E8759C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C9B-F58B-4AA6-A7C2-B4C28FC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3B7-BBFC-469A-B156-A29594C6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46F-7B72-43C5-BA0D-9FD81D4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889-8AFA-4FEF-81E5-713FB3B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099-E381-43D4-B2BF-DE456098E50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5098"/>
                </a:srgbClr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3" descr="герб ОО"/>
          <p:cNvPicPr/>
          <p:nvPr/>
        </p:nvPicPr>
        <p:blipFill>
          <a:blip r:embed="rId1"/>
          <a:stretch/>
        </p:blipFill>
        <p:spPr>
          <a:xfrm>
            <a:off x="4680" y="71280"/>
            <a:ext cx="917640" cy="7225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ая соединительная линия 5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987120" y="115920"/>
            <a:ext cx="1841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ыездное заседание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авительства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38"/>
          <p:cNvGrpSpPr/>
          <p:nvPr/>
        </p:nvGrpSpPr>
        <p:grpSpPr>
          <a:xfrm>
            <a:off x="324000" y="1052640"/>
            <a:ext cx="8569080" cy="993960"/>
            <a:chOff x="324000" y="1052640"/>
            <a:chExt cx="8569080" cy="993960"/>
          </a:xfrm>
        </p:grpSpPr>
        <p:sp>
          <p:nvSpPr>
            <p:cNvPr id="325" name="AutoShape 14"/>
            <p:cNvSpPr/>
            <p:nvPr/>
          </p:nvSpPr>
          <p:spPr>
            <a:xfrm>
              <a:off x="324000" y="1052640"/>
              <a:ext cx="8510400" cy="94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6"/>
            <p:cNvSpPr/>
            <p:nvPr/>
          </p:nvSpPr>
          <p:spPr>
            <a:xfrm>
              <a:off x="431640" y="1129680"/>
              <a:ext cx="846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Показатели смертности и заболеваемости туберкулезом, выполнение плана флюорообследования населения </a:t>
              </a:r>
              <a:br>
                <a:rPr sz="1800"/>
              </a:b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в </a:t>
              </a:r>
              <a:r>
                <a:rPr b="0" lang="ru-RU" sz="1800" spc="-1" strike="noStrike">
                  <a:solidFill>
                    <a:srgbClr val="464646"/>
                  </a:solidFill>
                  <a:latin typeface="Arial"/>
                </a:rPr>
                <a:t>Кормиловском</a:t>
              </a: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 муниципальном районе Ом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214200" y="2143080"/>
          <a:ext cx="8712360" cy="4011480"/>
        </p:xfrm>
        <a:graphic>
          <a:graphicData uri="http://schemas.openxmlformats.org/drawingml/2006/table">
            <a:tbl>
              <a:tblPr/>
              <a:tblGrid>
                <a:gridCol w="2808360"/>
                <a:gridCol w="685800"/>
                <a:gridCol w="754200"/>
                <a:gridCol w="1071360"/>
                <a:gridCol w="1160640"/>
                <a:gridCol w="1297080"/>
                <a:gridCol w="934920"/>
              </a:tblGrid>
              <a:tr h="62712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у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обла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болеваем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смер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выполнение плана флюорообследован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8" name="Стрелка вправо 13"/>
          <p:cNvSpPr/>
          <p:nvPr/>
        </p:nvSpPr>
        <p:spPr>
          <a:xfrm rot="16200000">
            <a:off x="8608320" y="55360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3"/>
          <p:cNvSpPr/>
          <p:nvPr/>
        </p:nvSpPr>
        <p:spPr>
          <a:xfrm>
            <a:off x="3928320" y="4287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значимые заболе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право 13"/>
          <p:cNvSpPr/>
          <p:nvPr/>
        </p:nvSpPr>
        <p:spPr>
          <a:xfrm rot="16200000">
            <a:off x="8537040" y="4035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3"/>
          <p:cNvSpPr/>
          <p:nvPr/>
        </p:nvSpPr>
        <p:spPr>
          <a:xfrm rot="16200000">
            <a:off x="8568360" y="4833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04:31Z</dcterms:created>
  <dc:creator>Migunova</dc:creator>
  <dc:description/>
  <dc:language>en-US</dc:language>
  <cp:lastModifiedBy>sysadmin</cp:lastModifiedBy>
  <dcterms:modified xsi:type="dcterms:W3CDTF">2011-05-06T09:43:13Z</dcterms:modified>
  <cp:revision>128</cp:revision>
  <dc:subject/>
  <dc:title>О готовности медицинской службы Омской областик эпидемическому подъему заболеваемости гриппом и ОРВИ в 2011 году</dc:title>
</cp:coreProperties>
</file>