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6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9EE3-58BC-4BCE-BA89-BB4883FE9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769-D1A3-4E88-98CC-D467217AA3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517-F40D-46C6-A274-8135BC38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A5F-3067-492D-B690-1E137C16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397-D7E1-459F-AE47-6C705DF1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809-8D9D-4717-A37F-0FEBFDA2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F08-C7CD-4B86-A741-FA19E9A6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03B-64A7-4471-8263-3456D70D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F21-3B15-4E07-A05A-43396D20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A5E-16C8-486F-8881-F12CB2CA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538-BABF-4471-831E-8EED64F4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38D-D8C0-4CEC-BDB6-A48E501C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F9C-54DF-469D-80B0-AD613B3F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864-687C-4926-8203-7DF1284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D036-0E34-43DA-B281-2A16044A242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9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5098"/>
                </a:srgbClr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3" descr="герб ОО"/>
          <p:cNvPicPr/>
          <p:nvPr/>
        </p:nvPicPr>
        <p:blipFill>
          <a:blip r:embed="rId1"/>
          <a:stretch/>
        </p:blipFill>
        <p:spPr>
          <a:xfrm>
            <a:off x="4680" y="71280"/>
            <a:ext cx="917640" cy="7225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ая соединительная линия 5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987120" y="115920"/>
            <a:ext cx="1841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ыездное заседание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авительства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мской обла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5"/>
          <p:cNvGrpSpPr/>
          <p:nvPr/>
        </p:nvGrpSpPr>
        <p:grpSpPr>
          <a:xfrm>
            <a:off x="324000" y="1052640"/>
            <a:ext cx="8565840" cy="884160"/>
            <a:chOff x="324000" y="1052640"/>
            <a:chExt cx="8565840" cy="884160"/>
          </a:xfrm>
        </p:grpSpPr>
        <p:sp>
          <p:nvSpPr>
            <p:cNvPr id="325" name="AutoShape 14"/>
            <p:cNvSpPr/>
            <p:nvPr/>
          </p:nvSpPr>
          <p:spPr>
            <a:xfrm>
              <a:off x="324000" y="1052640"/>
              <a:ext cx="85104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6"/>
            <p:cNvSpPr/>
            <p:nvPr/>
          </p:nvSpPr>
          <p:spPr>
            <a:xfrm>
              <a:off x="428760" y="1142640"/>
              <a:ext cx="84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7840"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ru-RU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Основные качественные показатели работы онкологической службы Кормиловского  муниципального района  Омской 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7" name=""/>
          <p:cNvGraphicFramePr/>
          <p:nvPr/>
        </p:nvGraphicFramePr>
        <p:xfrm>
          <a:off x="322200" y="1989000"/>
          <a:ext cx="8570880" cy="4118040"/>
        </p:xfrm>
        <a:graphic>
          <a:graphicData uri="http://schemas.openxmlformats.org/drawingml/2006/table">
            <a:tbl>
              <a:tblPr/>
              <a:tblGrid>
                <a:gridCol w="2089080"/>
                <a:gridCol w="720720"/>
                <a:gridCol w="792360"/>
                <a:gridCol w="1295280"/>
                <a:gridCol w="1440000"/>
                <a:gridCol w="1441440"/>
                <a:gridCol w="792000"/>
              </a:tblGrid>
              <a:tr h="38628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2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у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айон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йон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обла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8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заболевае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8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(на 100 тыс. нас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3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выявляемость на 1-2 стадиях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запущенность (4стадия)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8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летальность на 1 год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смерт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(на 100 тыс. нас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28" name="Стрелка вправо 13"/>
          <p:cNvSpPr/>
          <p:nvPr/>
        </p:nvSpPr>
        <p:spPr>
          <a:xfrm rot="16200000">
            <a:off x="8568720" y="33199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трелка вправо 13"/>
          <p:cNvSpPr/>
          <p:nvPr/>
        </p:nvSpPr>
        <p:spPr>
          <a:xfrm rot="16200000">
            <a:off x="8639640" y="569664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трелка вправо 18"/>
          <p:cNvSpPr/>
          <p:nvPr/>
        </p:nvSpPr>
        <p:spPr>
          <a:xfrm rot="5400000">
            <a:off x="8568000" y="38962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трелка вправо 18"/>
          <p:cNvSpPr/>
          <p:nvPr/>
        </p:nvSpPr>
        <p:spPr>
          <a:xfrm rot="5400000">
            <a:off x="8568000" y="51202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7"/>
          <p:cNvSpPr/>
          <p:nvPr/>
        </p:nvSpPr>
        <p:spPr>
          <a:xfrm>
            <a:off x="3928320" y="42876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значимые заболе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трелка вправо 18"/>
          <p:cNvSpPr/>
          <p:nvPr/>
        </p:nvSpPr>
        <p:spPr>
          <a:xfrm rot="5400000">
            <a:off x="8607960" y="45363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2:04:31Z</dcterms:created>
  <dc:creator>Migunova</dc:creator>
  <dc:description/>
  <dc:language>en-US</dc:language>
  <cp:lastModifiedBy>sysadmin</cp:lastModifiedBy>
  <dcterms:modified xsi:type="dcterms:W3CDTF">2011-05-06T09:38:38Z</dcterms:modified>
  <cp:revision>128</cp:revision>
  <dc:subject/>
  <dc:title>О готовности медицинской службы Омской областик эпидемическому подъему заболеваемости гриппом и ОРВИ в 2011 году</dc:title>
</cp:coreProperties>
</file>