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6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7348-264B-4289-BFE2-56C39043F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3011-C93C-4440-B6CF-769554A7E1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EFC-3F0B-4072-96FB-370BD506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F74-EBD6-4049-9E02-54050B6B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4A3-363A-4938-88BE-50D4C087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BE3-FA1A-4352-A389-D00EA9F8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4F9-2DFF-439E-80FE-BA6204FA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DBC-1120-4D60-BCCA-CE582AFB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020-2996-45DB-BAE0-A3C382D8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AE6-DC17-4A81-97C7-1E98F9F4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D3A-A9E8-4982-AFB2-FDCAE635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CE1-F634-4F06-A01D-2861040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B3D-FA94-4A26-8E65-5ABB8594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040-4BC9-4436-BCDC-928E3254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8F18-D2BD-4819-8A1B-B3A4002A491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9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5098"/>
                </a:srgbClr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3" descr="герб ОО"/>
          <p:cNvPicPr/>
          <p:nvPr/>
        </p:nvPicPr>
        <p:blipFill>
          <a:blip r:embed="rId1"/>
          <a:stretch/>
        </p:blipFill>
        <p:spPr>
          <a:xfrm>
            <a:off x="4680" y="71280"/>
            <a:ext cx="917640" cy="7225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ая соединительная линия 5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987120" y="115920"/>
            <a:ext cx="1841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ыездное заседание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авительства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мской обла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5"/>
          <p:cNvGrpSpPr/>
          <p:nvPr/>
        </p:nvGrpSpPr>
        <p:grpSpPr>
          <a:xfrm>
            <a:off x="324000" y="1052640"/>
            <a:ext cx="8565840" cy="884160"/>
            <a:chOff x="324000" y="1052640"/>
            <a:chExt cx="8565840" cy="884160"/>
          </a:xfrm>
        </p:grpSpPr>
        <p:sp>
          <p:nvSpPr>
            <p:cNvPr id="325" name="AutoShape 14"/>
            <p:cNvSpPr/>
            <p:nvPr/>
          </p:nvSpPr>
          <p:spPr>
            <a:xfrm>
              <a:off x="324000" y="1052640"/>
              <a:ext cx="85104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6"/>
            <p:cNvSpPr/>
            <p:nvPr/>
          </p:nvSpPr>
          <p:spPr>
            <a:xfrm>
              <a:off x="428760" y="1142640"/>
              <a:ext cx="84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7840" algn="ctr"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ru-RU" sz="1800" spc="-1" strike="noStrike">
                  <a:solidFill>
                    <a:srgbClr val="464646"/>
                  </a:solidFill>
                  <a:latin typeface="Arial"/>
                  <a:ea typeface="Arial"/>
                </a:rPr>
                <a:t>Основные качественные показатели работы онкологической службы Кормиловского  муниципального района  Омской 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7" name=""/>
          <p:cNvGraphicFramePr/>
          <p:nvPr/>
        </p:nvGraphicFramePr>
        <p:xfrm>
          <a:off x="322200" y="1989000"/>
          <a:ext cx="8570880" cy="4118040"/>
        </p:xfrm>
        <a:graphic>
          <a:graphicData uri="http://schemas.openxmlformats.org/drawingml/2006/table">
            <a:tbl>
              <a:tblPr/>
              <a:tblGrid>
                <a:gridCol w="2089080"/>
                <a:gridCol w="720720"/>
                <a:gridCol w="792360"/>
                <a:gridCol w="1295280"/>
                <a:gridCol w="1440000"/>
                <a:gridCol w="1441440"/>
                <a:gridCol w="792000"/>
              </a:tblGrid>
              <a:tr h="38628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2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у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айон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йон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обла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8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заболевае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8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(на 100 тыс. нас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3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выявляемость на 1-2 стадиях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запущенность (4стадия)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8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летальность на 1 год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смерт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64646"/>
                          </a:solidFill>
                          <a:latin typeface="Arial"/>
                        </a:rPr>
                        <a:t>(на 100 тыс. нас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28" name="Стрелка вправо 13"/>
          <p:cNvSpPr/>
          <p:nvPr/>
        </p:nvSpPr>
        <p:spPr>
          <a:xfrm rot="16200000">
            <a:off x="8568720" y="33199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трелка вправо 13"/>
          <p:cNvSpPr/>
          <p:nvPr/>
        </p:nvSpPr>
        <p:spPr>
          <a:xfrm rot="16200000">
            <a:off x="8639640" y="569664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трелка вправо 18"/>
          <p:cNvSpPr/>
          <p:nvPr/>
        </p:nvSpPr>
        <p:spPr>
          <a:xfrm rot="5400000">
            <a:off x="8568000" y="38962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трелка вправо 18"/>
          <p:cNvSpPr/>
          <p:nvPr/>
        </p:nvSpPr>
        <p:spPr>
          <a:xfrm rot="5400000">
            <a:off x="8568000" y="51202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7"/>
          <p:cNvSpPr/>
          <p:nvPr/>
        </p:nvSpPr>
        <p:spPr>
          <a:xfrm>
            <a:off x="3928320" y="42876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значимые заболе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трелка вправо 18"/>
          <p:cNvSpPr/>
          <p:nvPr/>
        </p:nvSpPr>
        <p:spPr>
          <a:xfrm rot="5400000">
            <a:off x="8607960" y="45363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2:04:31Z</dcterms:created>
  <dc:creator>Migunova</dc:creator>
  <dc:description/>
  <dc:language>en-US</dc:language>
  <cp:lastModifiedBy>sysadmin</cp:lastModifiedBy>
  <dcterms:modified xsi:type="dcterms:W3CDTF">2011-05-06T09:38:38Z</dcterms:modified>
  <cp:revision>128</cp:revision>
  <dc:subject/>
  <dc:title>О готовности медицинской службы Омской областик эпидемическому подъему заболеваемости гриппом и ОРВИ в 2011 году</dc:title>
</cp:coreProperties>
</file>